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D4C-78A2-4E62-A343-F5E0C0C1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6BB-B822-4285-A159-13E5E350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43F-B11F-417E-ADB3-AC89B984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889-9F9F-4D9F-B189-25683C51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B26-18C8-4A6F-B98A-537D7821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C67-1B5C-40FA-9688-6FC25619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B3A-2CFE-44EF-8B37-AF9EC0F3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7D2-05CC-4D2E-8AD6-7847BFD7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1EE-BC1D-4653-8915-C97A181B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AE9-723E-4242-B883-B7B407B5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947-8991-4538-B284-06C83019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178-4D90-4EC2-A178-91379CC4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41BB-A2F5-406A-9448-1EDA91B12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j0239131"/>
          <p:cNvPicPr/>
          <p:nvPr/>
        </p:nvPicPr>
        <p:blipFill>
          <a:blip r:embed="rId1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0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Line 4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j0212919"/>
          <p:cNvPicPr/>
          <p:nvPr/>
        </p:nvPicPr>
        <p:blipFill>
          <a:blip r:embed="rId1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38025"/>
          <p:cNvPicPr/>
          <p:nvPr/>
        </p:nvPicPr>
        <p:blipFill>
          <a:blip r:embed="rId1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7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Line 48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9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0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1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2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3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4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5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6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57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9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3" descr="j0212919"/>
          <p:cNvPicPr/>
          <p:nvPr/>
        </p:nvPicPr>
        <p:blipFill>
          <a:blip r:embed="rId1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5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Line 12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9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0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2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7" descr="j0212919"/>
          <p:cNvPicPr/>
          <p:nvPr/>
        </p:nvPicPr>
        <p:blipFill>
          <a:blip r:embed="rId1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Line 13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22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j0212919"/>
          <p:cNvPicPr/>
          <p:nvPr/>
        </p:nvPicPr>
        <p:blipFill>
          <a:blip r:embed="rId1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Line 14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6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1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3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j0212919"/>
          <p:cNvPicPr/>
          <p:nvPr/>
        </p:nvPicPr>
        <p:blipFill>
          <a:blip r:embed="rId1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Line 5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4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j0212919"/>
          <p:cNvPicPr/>
          <p:nvPr/>
        </p:nvPicPr>
        <p:blipFill>
          <a:blip r:embed="rId1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 </cp:lastModifiedBy>
  <cp:lastPrinted>2013-09-03T14:13:55Z</cp:lastPrinted>
  <dcterms:modified xsi:type="dcterms:W3CDTF">2013-09-03T14:15:20Z</dcterms:modified>
  <cp:revision>4</cp:revision>
  <dc:subject/>
  <dc:title>Identifying the Elements of A Plot Diagram</dc:title>
</cp:coreProperties>
</file>